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0B6C-EA5D-4E15-9276-69684D9F0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1CA6-5F25-4FC4-84AA-50CB0945B7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8B38-199B-4609-B642-30318CA20A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9C93-4DEC-41ED-B749-D55A23D9D84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76A5-CF40-410C-984F-4039289BEC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B0BC-3C00-4F18-8B69-11F3EDD46D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E8F3-4255-40AF-A4D4-1A2D775C3E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D064-7794-41B0-8E03-B65D8EF30D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7448-A452-4DBB-B454-DE2AFBCCAB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A3B8-318C-4596-8D3A-775EEB23900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A0DA-BCB1-4419-9488-BE0ADCCBD5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F22C-0350-446A-9C61-C181D27085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C37-A1E4-4827-BA39-92D57BA5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4DF2-F858-4EA4-9C98-91DD7D61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60E-1886-447A-8E4B-BEEFCE26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104-2505-4088-A54A-20E06FFF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A727-64DB-408C-8454-C4F2A657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1ACD-DA81-498C-BB50-37C05E14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4209-4E6A-4BD7-BB1B-528CBEAC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17EC-6A73-4E05-87E5-8EE91B17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A146-85AA-4F3C-B898-FC7BCEE1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6B68-C17C-4714-ACBF-A3F8FCCC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74AD-8543-4108-A56B-5A5D122E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6E59-4553-4318-AAA7-CDD2B8F8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710B-95DE-4DA9-BDE2-74847EF1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8152-BD61-4DF5-925D-4FDE5FAF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9445-333D-439E-94F3-B0A04650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0410-4B19-4FEB-918F-A2792DF7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F618-0B4A-4730-8B13-B6112F15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D34C3-BBF7-4986-9BC5-288983FE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734B0-AA79-4C90-BE00-49DE301E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386A2-ED92-4737-B63F-DDB872B3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09B38-1B0D-4597-B706-EF856855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8D9C1-9E99-48A7-BCFF-D7617C88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D6C-E8F2-48E7-BD67-4BF468D1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D6B37-1C05-4858-BBD2-3D1E5464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3F1FA-D6E2-4FB9-958C-DC2D3BB7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EDD2-2BBE-4A9E-9CFE-1A158D5C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1D024-185A-4F2A-BEFA-4C42B7CA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E87F4-55AB-4960-AB44-C234CEAE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EC862-1E42-470A-B2B0-C122173F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5E996-9F06-4FF3-836A-5D501060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5C9D8-EC39-4D80-A524-21DBEA08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FB963-7274-46E8-BCED-685DEC0A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A941F-F908-4263-96C8-1AC948D1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58A2-C9FA-46F0-AE4F-72D50036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333D0-DED9-42EE-99DF-F696F01D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7407C-B844-4242-94E3-6E7A8353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D55C2-4D78-406C-8369-6B5B5076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56E94-D1DB-412F-875E-5F788E35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4F752-2737-485E-9234-1740930D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2A414-FF5E-4F19-90B8-A00181A3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C9544-60A0-4DCB-937B-62A04A71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A14C5-27AB-4038-BA00-A037FDC9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D8053-0C4E-4910-BDDB-4383DF83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E84D0-20E9-40B1-B9F4-BF58448A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352-F8C0-4453-A69C-655344D3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162BB-B685-4F09-B6BD-023857B5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2BA13-332F-45EB-8485-AEFAEF7A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687D6-E73B-41CA-B14C-B08D57AA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A9832-A674-4D52-B728-0DC322CD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274F4-BCF2-4C4B-B6F1-B7550CFA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6CCD2-DF6D-4E94-8333-057F9372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A0F5E-B413-4CD3-91CA-94178363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9958C-82FC-4826-BF93-10BD9AAB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E3CD0-2CF1-4A1A-ADD9-15C841E6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BAD34-CE1C-4B2B-94F1-74DD5D15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D5D1-C338-4507-A102-456EA77C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C5C88-29A7-418E-A777-989946C4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64619-D3F0-4DD0-B363-22F9A67B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D17E1-F72A-4826-AC25-AD91FA17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380F1-046F-4567-B484-D9D26B19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3B8A8-B64C-4264-B8F9-8E40FBDE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93791-FC10-473F-B524-3BB1AC1F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E8913-2BE3-4E60-B96B-D0AD3C4F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6A264-5DCE-4B9B-85BB-EFDC0840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12C04-73D6-46BB-A2C9-A0BC4C47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D0A3A-7383-49B6-8714-D84DFA8F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366-9876-4E1A-A6AE-46180E83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1BF9D-3E37-41F0-B5F2-96B8DCF6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2096D-5CC4-4D30-BA8D-6890CF93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087DC-E12A-4E9A-9258-E1D10002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C18-A0D5-4A72-855B-8B4F0E6B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EFA-79DB-4DF8-A994-208B8AAE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F461-C3A1-479F-8D4B-ABF166D76E1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FA3E-D1CE-4FBC-A493-73471E9353B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1898-A180-451F-B155-E70BC2FC87E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7AA8-9AB8-49D5-ACEA-E039F2F21F1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1948-835A-4817-A4D6-72A0F63812A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FDAA-91A2-4D7B-AC2F-749970C4D75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28640" y="1142640"/>
            <a:ext cx="4267080" cy="181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0b0"/>
                </a:solidFill>
                <a:latin typeface="Franklin Gothic Book"/>
              </a:rPr>
              <a:t>Problems and Projects in Education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Placeholder 4" descr="th_anaastro-1.jpg"/>
          <p:cNvPicPr/>
          <p:nvPr/>
        </p:nvPicPr>
        <p:blipFill>
          <a:blip r:embed="rId1"/>
          <a:stretch/>
        </p:blipFill>
        <p:spPr>
          <a:xfrm>
            <a:off x="646200" y="1103400"/>
            <a:ext cx="1944720" cy="27795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04960" y="2971440"/>
            <a:ext cx="4190760" cy="3554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nnessee State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CI 5910 96/97/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minar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ll Semester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 #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d by: Ana Sel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Do you school has a zero tolerance policy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2" name="Sand29.wmv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p:transition advTm="102000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00608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y advice for new teachers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4" name="Sand26.wmv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492520" cy="4495680"/>
          </a:xfrm>
          <a:prstGeom prst="rect">
            <a:avLst/>
          </a:prstGeom>
          <a:ln w="0">
            <a:noFill/>
          </a:ln>
        </p:spPr>
      </p:pic>
    </p:spTree>
  </p:cSld>
  <p:transition advTm="133000"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30816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492600" cy="2444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iew #1: Assistan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3" descr="Sanders4_0001.jpg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5181480" y="457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o Am I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8" name="Sanders 21.wmv" descr=""/>
          <p:cNvPicPr/>
          <p:nvPr/>
        </p:nvPicPr>
        <p:blipFill>
          <a:blip r:embed="rId1"/>
          <a:stretch/>
        </p:blipFill>
        <p:spPr>
          <a:xfrm>
            <a:off x="1905120" y="1576440"/>
            <a:ext cx="5333760" cy="4062240"/>
          </a:xfrm>
          <a:prstGeom prst="rect">
            <a:avLst/>
          </a:prstGeom>
          <a:ln w="0">
            <a:noFill/>
          </a:ln>
        </p:spPr>
      </p:pic>
    </p:spTree>
  </p:cSld>
  <p:transition advTm="19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360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hat is the best part of your job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0" name="Sand22.wmv" descr=""/>
          <p:cNvPicPr/>
          <p:nvPr/>
        </p:nvPicPr>
        <p:blipFill>
          <a:blip r:embed="rId1"/>
          <a:stretch/>
        </p:blipFill>
        <p:spPr>
          <a:xfrm>
            <a:off x="1828800" y="20908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p:transition advTm="28000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6816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hat is the one thing you dislike about your job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Sand23.wmv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105520" cy="3657600"/>
          </a:xfrm>
          <a:prstGeom prst="rect">
            <a:avLst/>
          </a:prstGeom>
          <a:ln w="0">
            <a:noFill/>
          </a:ln>
        </p:spPr>
      </p:pic>
    </p:spTree>
  </p:cSld>
  <p:transition advTm="64000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62464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24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alk to me about Support 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dministration-Teacher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Sand24.wmv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172200" cy="3886200"/>
          </a:xfrm>
          <a:prstGeom prst="rect">
            <a:avLst/>
          </a:prstGeom>
          <a:ln w="0">
            <a:noFill/>
          </a:ln>
        </p:spPr>
      </p:pic>
    </p:spTree>
  </p:cSld>
  <p:transition advTm="60000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5488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How would you like to be perceived by your teachers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Sand25.wmv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4952880" cy="3505320"/>
          </a:xfrm>
          <a:prstGeom prst="rect">
            <a:avLst/>
          </a:prstGeom>
          <a:ln w="0">
            <a:noFill/>
          </a:ln>
        </p:spPr>
      </p:pic>
    </p:spTree>
  </p:cSld>
  <p:transition advTm="77000"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75392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How do you deal with a student-teacher conflict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8" name="Sand28.wmv" descr=""/>
          <p:cNvPicPr/>
          <p:nvPr/>
        </p:nvPicPr>
        <p:blipFill>
          <a:blip r:embed="rId1"/>
          <a:stretch/>
        </p:blipFill>
        <p:spPr>
          <a:xfrm>
            <a:off x="1905120" y="16905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advTm="65000"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65280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610840" cy="1447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Do you have  graduated consequences for students who continually break school rule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Sand27.wmv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225760" cy="3919680"/>
          </a:xfrm>
          <a:prstGeom prst="rect">
            <a:avLst/>
          </a:prstGeom>
          <a:ln w="0">
            <a:noFill/>
          </a:ln>
        </p:spPr>
      </p:pic>
    </p:spTree>
  </p:cSld>
  <p:transition advTm="155000"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54368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2:25:14Z</dcterms:created>
  <dc:creator>Owner</dc:creator>
  <dc:description/>
  <dc:language>en-US</dc:language>
  <cp:lastModifiedBy>Owner</cp:lastModifiedBy>
  <dcterms:modified xsi:type="dcterms:W3CDTF">2008-10-23T02:09:18Z</dcterms:modified>
  <cp:revision>39</cp:revision>
  <dc:subject/>
  <dc:title>Slide 1</dc:title>
</cp:coreProperties>
</file>